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286-9CD9-4AB4-A594-2241EDC2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461-4596-4259-A9EA-1717CE0D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4A0-7A63-4BE6-A9CE-5BD65A69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9F9-8C14-4016-B4D4-7A07E8EA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2470-2426-4F23-948C-FA4ECFDC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D48-D57A-4886-A547-31C36A4C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BB5-B543-4D2E-9F13-B4946B4F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BE7-5A9F-4DB1-A9C2-22B163BE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90D-0EA2-4B0D-B2D1-707FA118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FCCB-1A57-4F04-B4EE-6BD475B2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595-FA75-4BA2-9682-21D3B9B3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F4C-BCD6-49B2-AC0E-E58E1B15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AB1C-7BAD-4DB7-BD04-A0B5E8733D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 Math"/>
              </a:rPr>
              <a:t>Transition matrice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.e. After 1 month, there are 285 customers at store A and 315 at store B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imilarly, the state after month 2, 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, can be found by applying the same transition to 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Hence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214720" y="3857760"/>
            <a:ext cx="2009520" cy="552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2714760" y="4572000"/>
            <a:ext cx="4076640" cy="895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9"/>
          <p:cNvSpPr/>
          <p:nvPr/>
        </p:nvSpPr>
        <p:spPr>
          <a:xfrm>
            <a:off x="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2714760" y="5643720"/>
            <a:ext cx="1923840" cy="8953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2"/>
          <p:cNvSpPr/>
          <p:nvPr/>
        </p:nvSpPr>
        <p:spPr>
          <a:xfrm>
            <a:off x="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3296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How many customers are expected in each store after 10 months?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t is inefficient to repeat this operation 10 time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ince the transition matrix is the same each time we can raise it to a power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For instance, we could find 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by calculating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857160" y="5857920"/>
            <a:ext cx="2219400" cy="5522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3214800" y="5572080"/>
            <a:ext cx="4267080" cy="990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329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imilarly, we can find 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10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by calculating: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Rounding, there are 267 customers in store A and 333 in store B after ten month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2533680" cy="552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1500120" y="3071880"/>
            <a:ext cx="4429080" cy="990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3"/>
          <a:stretch/>
        </p:blipFill>
        <p:spPr>
          <a:xfrm>
            <a:off x="1500120" y="4286160"/>
            <a:ext cx="1924200" cy="8953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Find T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50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and T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5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. How many customers are expected in each store after 50 months? After 51 months?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50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5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50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5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428480"/>
            <a:ext cx="8286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hen T is raised to large powers, the transition matrices start to look the same (T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50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=T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5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). This form of the transition matrix is called the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steady state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or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long term transition matrix, T</a:t>
            </a:r>
            <a:r>
              <a:rPr b="1" lang="en-AU" sz="3200" spc="-1" strike="noStrike" baseline="30000">
                <a:solidFill>
                  <a:srgbClr val="000000"/>
                </a:solidFill>
                <a:latin typeface="Cambria Math"/>
              </a:rPr>
              <a:t>∞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states 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50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nd 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5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also look identical. When this happens, the problem has reached a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steady state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e can use large powers of T to test whether the steady state has occurred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Note: There is no steady state if T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contains any zero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n our problem, the steady state means that we can expect 267 customers in shop A and 333 in shop B in the long term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orked example 19 on p.854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ercise 16F: 1, 2, 3, 4, 6, 7, 9, 10, 11, 13, 15, 16, 17, 21, 22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Powers of matrice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1213920"/>
            <a:ext cx="8286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Only square matrices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can be raised to a power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214280" y="2286000"/>
            <a:ext cx="3353040" cy="771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785880" y="3071880"/>
            <a:ext cx="5143320" cy="771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1285920" y="4000680"/>
            <a:ext cx="5848200" cy="780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4"/>
          <a:stretch/>
        </p:blipFill>
        <p:spPr>
          <a:xfrm>
            <a:off x="1285920" y="4857840"/>
            <a:ext cx="2028960" cy="780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On a CAS calculator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29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Define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ype       to get the answer 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1943280" cy="771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571760" y="3000240"/>
            <a:ext cx="371520" cy="486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3"/>
          <a:stretch/>
        </p:blipFill>
        <p:spPr>
          <a:xfrm>
            <a:off x="5214960" y="2857680"/>
            <a:ext cx="202896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Find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Find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4076640" cy="7808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2000160" y="3429000"/>
            <a:ext cx="419040" cy="485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2000160" y="2857680"/>
            <a:ext cx="38124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Markov Systems and Transitions Matrice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See Worked Example 18 on p.852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The information can be summarised :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75% of Store A’s customers return there next month. The other 25% change to Store B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80% of Store B’s customers return there next month. The other 20% change to Store A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Fill in the two way frequency table: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28800" y="4286160"/>
          <a:ext cx="6095880" cy="18543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From this 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37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o next 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Transition diagram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press the 2-way frequency table as a transition diagram (see p.850)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How many customers are expected at the store at the end of 2 months if A and B each had 300 customers initially?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Markov systems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let us predict future events given information about current state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300 customers in each store is called the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initial state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or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S</a:t>
            </a:r>
            <a:r>
              <a:rPr b="1" lang="en-AU" sz="3200" spc="-1" strike="noStrike" baseline="-25000">
                <a:solidFill>
                  <a:srgbClr val="000000"/>
                </a:solidFill>
                <a:latin typeface="Cambria Math"/>
              </a:rPr>
              <a:t>0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. This is the state of the problem at the start.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During month 1, a transition occurs: soe of A’s customers go to B and vice versa. The state after month 1, 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, can be found by: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0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nd T can be represented by matrices, with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928800" y="4786200"/>
            <a:ext cx="2009520" cy="552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1928880" y="5786280"/>
            <a:ext cx="1886040" cy="8859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0" y="13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Our transition matrix, T, is similar to our 2-way table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refore after 1 month,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928800" y="2714760"/>
            <a:ext cx="300024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857160" y="4429080"/>
            <a:ext cx="2009880" cy="552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3"/>
          <a:stretch/>
        </p:blipFill>
        <p:spPr>
          <a:xfrm>
            <a:off x="1357200" y="5214960"/>
            <a:ext cx="5581800" cy="895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9:23:51Z</dcterms:created>
  <dc:creator>08843474</dc:creator>
  <dc:description/>
  <dc:language>en-US</dc:language>
  <cp:lastModifiedBy>08843474</cp:lastModifiedBy>
  <dcterms:modified xsi:type="dcterms:W3CDTF">2011-05-23T22:42:03Z</dcterms:modified>
  <cp:revision>8</cp:revision>
  <dc:subject/>
  <dc:title>Matrices</dc:title>
</cp:coreProperties>
</file>